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685440" y="152388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6854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908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962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6854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908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962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685440" y="1523880"/>
            <a:ext cx="800100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533520"/>
            <a:ext cx="78483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685440" y="1523880"/>
            <a:ext cx="800100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685440" y="152388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6854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3908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96240" y="152388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6854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3908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96240" y="3912120"/>
            <a:ext cx="2576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533520"/>
            <a:ext cx="7848360" cy="388620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512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44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685440" y="1523880"/>
            <a:ext cx="390420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5120" y="391212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68544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5120" y="1523880"/>
            <a:ext cx="39042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685440" y="3912120"/>
            <a:ext cx="80010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2360" y="6583320"/>
            <a:ext cx="118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tton Bridge</a:t>
            </a:r>
            <a:endParaRPr b="0" lang="en-US" sz="1200" spc="-1" strike="noStrike">
              <a:solidFill>
                <a:srgbClr val="000000"/>
              </a:solidFill>
              <a:latin typeface="Times New Roman"/>
            </a:endParaRPr>
          </a:p>
        </p:txBody>
      </p:sp>
      <p:sp>
        <p:nvSpPr>
          <p:cNvPr id="7" name=""/>
          <p:cNvSpPr/>
          <p:nvPr/>
        </p:nvSpPr>
        <p:spPr>
          <a:xfrm>
            <a:off x="7387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845C-D7E7-48E4-B011-026089DF4786}"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9"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0416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FF4D-0365-4EE9-9A78-722FFC5FFA1B}"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0920" y="658332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ex</a:t>
            </a:r>
            <a:endParaRPr b="0" lang="en-US" sz="1200" spc="-1" strike="noStrike">
              <a:solidFill>
                <a:srgbClr val="000000"/>
              </a:solidFill>
              <a:latin typeface="Times New Roman"/>
            </a:endParaRPr>
          </a:p>
        </p:txBody>
      </p:sp>
      <p:sp>
        <p:nvSpPr>
          <p:cNvPr id="55" name=""/>
          <p:cNvSpPr/>
          <p:nvPr/>
        </p:nvSpPr>
        <p:spPr>
          <a:xfrm>
            <a:off x="75301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D688-AD78-417D-B5C4-56D8AB6B65BA}"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E074-9EC2-4BC1-AEA0-D62DD8798868}"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Case</a:t>
            </a:r>
            <a:endParaRPr b="1" lang="en-US" sz="2000" spc="-1" strike="noStrike">
              <a:solidFill>
                <a:srgbClr val="000000"/>
              </a:solidFill>
              <a:latin typeface="Arial"/>
            </a:endParaRPr>
          </a:p>
        </p:txBody>
      </p:sp>
      <p:pic>
        <p:nvPicPr>
          <p:cNvPr id="98" name="" descr=""/>
          <p:cNvPicPr/>
          <p:nvPr/>
        </p:nvPicPr>
        <p:blipFill>
          <a:blip r:embed="rId1"/>
          <a:stretch/>
        </p:blipFill>
        <p:spPr>
          <a:xfrm>
            <a:off x="4419720" y="152280"/>
            <a:ext cx="4292640" cy="6324840"/>
          </a:xfrm>
          <a:prstGeom prst="rect">
            <a:avLst/>
          </a:prstGeom>
          <a:ln w="0">
            <a:noFill/>
          </a:ln>
        </p:spPr>
      </p:pic>
      <p:pic>
        <p:nvPicPr>
          <p:cNvPr id="99" name="" descr=""/>
          <p:cNvPicPr/>
          <p:nvPr/>
        </p:nvPicPr>
        <p:blipFill>
          <a:blip r:embed="rId2"/>
          <a:stretch/>
        </p:blipFill>
        <p:spPr>
          <a:xfrm>
            <a:off x="838080" y="2438280"/>
            <a:ext cx="2971800" cy="1974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in 1997</a:t>
            </a:r>
            <a:endParaRPr b="1" lang="en-US" sz="2000" spc="-1" strike="noStrike">
              <a:solidFill>
                <a:srgbClr val="000000"/>
              </a:solidFill>
              <a:latin typeface="Arial"/>
            </a:endParaRPr>
          </a:p>
        </p:txBody>
      </p:sp>
      <p:pic>
        <p:nvPicPr>
          <p:cNvPr id="121"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ments</a:t>
            </a:r>
            <a:endParaRPr b="1" lang="en-US" sz="2000" spc="-1" strike="noStrike">
              <a:solidFill>
                <a:srgbClr val="000000"/>
              </a:solidFill>
              <a:latin typeface="Arial"/>
            </a:endParaRPr>
          </a:p>
        </p:txBody>
      </p:sp>
      <p:sp>
        <p:nvSpPr>
          <p:cNvPr id="123"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0 MW for 322 Million GPB</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 -- 397/kW in GBP; 650/kW in USD</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Fixed Cost Assets at COD 314 Million</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and Tolling Agreemen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s in 2014</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mp;M Agreement</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Million for 12 Years with Escalation</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ve Expense Agreement for 25 Years</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ly with Enron at 330,000</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at 200,000 with EDF</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Rate Swap</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a:t>
            </a:r>
            <a:endParaRPr b="1" lang="en-US" sz="2000" spc="-1" strike="noStrike">
              <a:solidFill>
                <a:srgbClr val="000000"/>
              </a:solidFill>
              <a:latin typeface="Arial"/>
            </a:endParaRPr>
          </a:p>
        </p:txBody>
      </p:sp>
      <p:pic>
        <p:nvPicPr>
          <p:cNvPr id="125" name="" descr=""/>
          <p:cNvPicPr/>
          <p:nvPr/>
        </p:nvPicPr>
        <p:blipFill>
          <a:blip r:embed="rId1"/>
          <a:stretch/>
        </p:blipFill>
        <p:spPr>
          <a:xfrm>
            <a:off x="990720" y="1752480"/>
            <a:ext cx="6856200" cy="391824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Financing</a:t>
            </a:r>
            <a:endParaRPr b="1" lang="en-US" sz="2000" spc="-1" strike="noStrike">
              <a:solidFill>
                <a:srgbClr val="000000"/>
              </a:solidFill>
              <a:latin typeface="Arial"/>
            </a:endParaRPr>
          </a:p>
        </p:txBody>
      </p:sp>
      <p:sp>
        <p:nvSpPr>
          <p:cNvPr id="127"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5 Million GBP</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 Million USD (91.9 GBP)</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 287 GBP</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 8.625%</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7.97%; After Swap Effective Rate is 8.45%</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1.6317</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ighted Average Rate is 8.56%</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Years</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June and 31 December</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ond Financing and EPC</a:t>
            </a:r>
            <a:endParaRPr b="1" lang="en-US" sz="2000" spc="-1" strike="noStrike">
              <a:solidFill>
                <a:srgbClr val="000000"/>
              </a:solidFill>
              <a:latin typeface="Arial"/>
            </a:endParaRPr>
          </a:p>
        </p:txBody>
      </p:sp>
      <p:sp>
        <p:nvSpPr>
          <p:cNvPr id="129"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tton Bridge is a 790 MW combined cycle gas-fired power plant located 140 miles north of London. By financing it via a capital markets issue sponsor Enron obtained favorable fixed-rate debt at longer maturities and with greater flexibility than would have been achieved had it used a more typical loan syndication. It used a variety of financial engineering tools to obtain these attractive terms, including a shifting credit structure, dual-currency tranches, and sharing risk between several groups within the Enron family of companie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ey to the structure was the </a:t>
            </a:r>
            <a:r>
              <a:rPr b="1" i="1" lang="en-US" sz="1600" spc="-1" strike="noStrike">
                <a:solidFill>
                  <a:srgbClr val="0000ff"/>
                </a:solidFill>
                <a:latin typeface="Arial"/>
              </a:rPr>
              <a:t>three-phase life of the bonds</a:t>
            </a:r>
            <a:r>
              <a:rPr b="0" lang="en-US" sz="1600" spc="-1" strike="noStrike">
                <a:solidFill>
                  <a:srgbClr val="000000"/>
                </a:solidFill>
                <a:latin typeface="Arial"/>
              </a:rPr>
              <a: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rst 19 months, the bonds carry construction risk, but it is mitigated by the fixed-price engineering contact with Enron. This contract, however, falls short of the standard turnkey EPC contract usually found in project bonds, and that generally come at premium to sponsors. Liquidated damages and other agreements with primary equipment supplier GE mitigate most of the construction-related and plant-performance risks. The cost overrun facility is also helpful in this regard.</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ond Re-payment</a:t>
            </a:r>
            <a:endParaRPr b="1" lang="en-US" sz="2000" spc="-1" strike="noStrike">
              <a:solidFill>
                <a:srgbClr val="000000"/>
              </a:solidFill>
              <a:latin typeface="Arial"/>
            </a:endParaRPr>
          </a:p>
        </p:txBody>
      </p:sp>
      <p:pic>
        <p:nvPicPr>
          <p:cNvPr id="131" name="" descr=""/>
          <p:cNvPicPr/>
          <p:nvPr/>
        </p:nvPicPr>
        <p:blipFill>
          <a:blip r:embed="rId1"/>
          <a:stretch/>
        </p:blipFill>
        <p:spPr>
          <a:xfrm>
            <a:off x="1447920" y="1143000"/>
            <a:ext cx="4910040" cy="5029200"/>
          </a:xfrm>
          <a:prstGeom prst="rect">
            <a:avLst/>
          </a:prstGeom>
          <a:ln w="0">
            <a:noFill/>
          </a:ln>
        </p:spPr>
      </p:pic>
      <p:sp>
        <p:nvSpPr>
          <p:cNvPr id="132" name=""/>
          <p:cNvSpPr/>
          <p:nvPr/>
        </p:nvSpPr>
        <p:spPr>
          <a:xfrm>
            <a:off x="533520" y="18288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Times New Roman"/>
            </a:endParaRPr>
          </a:p>
        </p:txBody>
      </p:sp>
      <p:sp>
        <p:nvSpPr>
          <p:cNvPr id="133" name=""/>
          <p:cNvSpPr/>
          <p:nvPr/>
        </p:nvSpPr>
        <p:spPr>
          <a:xfrm>
            <a:off x="838080" y="289548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ling Agreement</a:t>
            </a:r>
            <a:endParaRPr b="0" lang="en-US" sz="1200" spc="-1" strike="noStrike">
              <a:solidFill>
                <a:srgbClr val="000000"/>
              </a:solidFill>
              <a:latin typeface="Times New Roman"/>
            </a:endParaRPr>
          </a:p>
        </p:txBody>
      </p:sp>
      <p:sp>
        <p:nvSpPr>
          <p:cNvPr id="134" name=""/>
          <p:cNvSpPr/>
          <p:nvPr/>
        </p:nvSpPr>
        <p:spPr>
          <a:xfrm>
            <a:off x="838080" y="5105520"/>
            <a:ext cx="16002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2120" y="4876920"/>
            <a:ext cx="144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a:t>
            </a:r>
            <a:endParaRPr b="0" lang="en-US" sz="1200" spc="-1" strike="noStrike">
              <a:solidFill>
                <a:srgbClr val="000000"/>
              </a:solidFill>
              <a:latin typeface="Times New Roman"/>
            </a:endParaRPr>
          </a:p>
        </p:txBody>
      </p:sp>
      <p:sp>
        <p:nvSpPr>
          <p:cNvPr id="136" name=""/>
          <p:cNvSpPr/>
          <p:nvPr/>
        </p:nvSpPr>
        <p:spPr>
          <a:xfrm>
            <a:off x="1981080" y="5029200"/>
            <a:ext cx="99072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1752480" y="3276720"/>
            <a:ext cx="106704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00200" y="2133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ing Agreements and Risk (S&amp;P)</a:t>
            </a:r>
            <a:endParaRPr b="1" lang="en-US" sz="2000" spc="-1" strike="noStrike">
              <a:solidFill>
                <a:srgbClr val="000000"/>
              </a:solidFill>
              <a:latin typeface="Arial"/>
            </a:endParaRPr>
          </a:p>
        </p:txBody>
      </p:sp>
      <p:sp>
        <p:nvSpPr>
          <p:cNvPr id="14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ra of competitive power, when merchant generators are assuming risks of price and dispatch (volume), tolling arrangements can materially reduce the risk of revenue volatility for owners and operators of single-asset pl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ce of electricity market risk in a project is often a constraint in obtaining an investment-grade rating, especially for single-asset plants that have no portfolio diversifica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tolling agreement can mitigate risk to the extent that a single-asset generator operating in a competitive electricity market can obtain an investment-grade rating even with fairly high debt leverage and relatively low debt-service coverage ratios.   </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During Tolling Agreement</a:t>
            </a:r>
            <a:endParaRPr b="1" lang="en-US" sz="2000" spc="-1" strike="noStrike">
              <a:solidFill>
                <a:srgbClr val="000000"/>
              </a:solidFill>
              <a:latin typeface="Arial"/>
            </a:endParaRPr>
          </a:p>
        </p:txBody>
      </p:sp>
      <p:sp>
        <p:nvSpPr>
          <p:cNvPr id="14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phase runs from March 1, 1999 and runs until 2014. In this period there are none of the usual fixed-price fuel supply and offtake contracts, which protect downside risk but can end up hindering plants from operating at maximum efficiency.  "They may lock the project into gas purchase prices that run out to be above market, or, conversely, force it to sell electricity at power sales prices that are ultimately below market," according to a report on the project in the </a:t>
            </a:r>
            <a:r>
              <a:rPr b="0" i="1" lang="en-US" sz="1600" spc="-1" strike="noStrike">
                <a:solidFill>
                  <a:srgbClr val="000000"/>
                </a:solidFill>
                <a:latin typeface="Arial"/>
              </a:rPr>
              <a:t>Journal of Project Finance </a:t>
            </a:r>
            <a:r>
              <a:rPr b="0" lang="en-US" sz="1600" spc="-1" strike="noStrike">
                <a:solidFill>
                  <a:srgbClr val="000000"/>
                </a:solidFill>
                <a:latin typeface="Arial"/>
              </a:rPr>
              <a:t>(Winter 1997). To offset these risks, the CTA with the Enron Capital assumes most fuel supply and offtake responsibility. </a:t>
            </a:r>
            <a:r>
              <a:rPr b="1" i="1" lang="en-US" sz="1600" spc="-1" strike="noStrike">
                <a:solidFill>
                  <a:srgbClr val="0000ff"/>
                </a:solidFill>
                <a:latin typeface="Arial"/>
              </a:rPr>
              <a:t>Enron Capital makes monthly fixed payments related to the project's capacity that will be sufficient to meet all debt service obligations, plus quarterly variable energy payments based on the number of hours the gas turbines actually operate. The project then makes generating capacity available to Enron Capital, which is also the supplier of its natural gas.</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dvantage of the deregulated EU gas markets, the plant will only operate in this second period when pool prices are sufficiently high. It is expected to be switched on and off several times a day.</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t Period</a:t>
            </a:r>
            <a:endParaRPr b="1" lang="en-US" sz="2000" spc="-1" strike="noStrike">
              <a:solidFill>
                <a:srgbClr val="000000"/>
              </a:solidFill>
              <a:latin typeface="Arial"/>
            </a:endParaRPr>
          </a:p>
        </p:txBody>
      </p:sp>
      <p:sp>
        <p:nvSpPr>
          <p:cNvPr id="14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phase runs from 2014 to 2022. The project may operate as a true merchant plant in this time, with no sales contracts at all and thus subject to greater market and commodity price risk. </a:t>
            </a:r>
            <a:r>
              <a:rPr b="1" i="1" lang="en-US" sz="1800" spc="-1" strike="noStrike">
                <a:solidFill>
                  <a:srgbClr val="0000ff"/>
                </a:solidFill>
                <a:latin typeface="Arial"/>
              </a:rPr>
              <a:t>By this time approximately 70% of the debt will have been paid down, and a higher debt service reserve will be created.</a:t>
            </a:r>
            <a:r>
              <a:rPr b="0" lang="en-US" sz="1800" spc="-1" strike="noStrike">
                <a:solidFill>
                  <a:srgbClr val="000000"/>
                </a:solidFill>
                <a:latin typeface="Arial"/>
              </a:rPr>
              <a:t> Enron is expected to reduce its ownership position substantially in this period, perhaps to as little as 10%, although still manage the plant, and there is also the possibility that new 'clean' coal gasification technology could drive down the prices the plant could command in the UK markets.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consultants' projections, however, convinced the rating agencies that the plant would still be highly competitive in this time. "Ultimately Sutton Bridge Power's credit strength will rest with its ability to maintain a high availability and to produce electricity in the most cost effective and efficient way possible," argued S&amp;P's credit report. "In structuring this transaction, Enron has adequately mitigated this risk for the project's rating level."</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 Risk</a:t>
            </a:r>
            <a:endParaRPr b="1" lang="en-US" sz="2000" spc="-1" strike="noStrike">
              <a:solidFill>
                <a:srgbClr val="000000"/>
              </a:solidFill>
              <a:latin typeface="Arial"/>
            </a:endParaRPr>
          </a:p>
        </p:txBody>
      </p:sp>
      <p:sp>
        <p:nvSpPr>
          <p:cNvPr id="14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lso some exchange risk, since </a:t>
            </a:r>
            <a:r>
              <a:rPr b="1" i="1" lang="en-US" sz="1800" spc="-1" strike="noStrike">
                <a:solidFill>
                  <a:srgbClr val="0000ff"/>
                </a:solidFill>
                <a:latin typeface="Arial"/>
              </a:rPr>
              <a:t>the project earns revenues in sterling but has some dollar exposure</a:t>
            </a:r>
            <a:r>
              <a:rPr b="0" lang="en-US" sz="1800" spc="-1" strike="noStrike">
                <a:solidFill>
                  <a:srgbClr val="000000"/>
                </a:solidFill>
                <a:latin typeface="Arial"/>
              </a:rPr>
              <a:t>. To mitigate this the issuer has a dollar bond currency swap arrangement with Enron Capital over the life of the dollar bonds that will provide it with fixed amounts of dollars in exchange for sterling, plus other swap agreements that limit its exposure to devalu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converts GBP to USD at fixed rate to Sutton Bridge so payments are effectively in GBP.  Loss on swap meant that USD increased relative to GBP and new swap would increase interest payments in GBP.</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erest rate swaps were sold or terminated, any gain or loss would be deferred and amortised over the remaining life of the debt instrument being hedged by the interest rate swap.</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instrument being hedged by interest rate swaps were to be extinguished, any gain or loss attributable to the swaps would be recognised in the period of the transaction.</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ssues in the Case</a:t>
            </a:r>
            <a:endParaRPr b="1" lang="en-US" sz="2000" spc="-1" strike="noStrike">
              <a:solidFill>
                <a:srgbClr val="000000"/>
              </a:solidFill>
              <a:latin typeface="Arial"/>
            </a:endParaRPr>
          </a:p>
        </p:txBody>
      </p:sp>
      <p:sp>
        <p:nvSpPr>
          <p:cNvPr id="101"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e can be used to study a number of issues</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nd returns of merchant versus contra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risks be evaluated in a model</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 in contract and merchant operation</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s in alternative operation</a:t>
            </a:r>
            <a:endParaRPr b="0" lang="en-US" sz="14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and benefits of bond financing</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 for dela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 for plant performance</a:t>
            </a:r>
            <a:endParaRPr b="0" lang="en-US" sz="14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Merchant versus Contract</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long-run equilibrium price</a:t>
            </a:r>
            <a:endParaRPr b="0" lang="en-US" sz="1600" spc="-1" strike="noStrike">
              <a:solidFill>
                <a:srgbClr val="000000"/>
              </a:solidFill>
              <a:latin typeface="Arial"/>
            </a:endParaRPr>
          </a:p>
          <a:p>
            <a:pPr lvl="1" marL="973080" indent="-29052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break-even be calculated</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48"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50"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52"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54"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oncentration in UK 1990 and 2000</a:t>
            </a:r>
            <a:endParaRPr b="1" lang="en-US" sz="2000" spc="-1" strike="noStrike">
              <a:solidFill>
                <a:srgbClr val="000000"/>
              </a:solidFill>
              <a:latin typeface="Arial"/>
            </a:endParaRPr>
          </a:p>
        </p:txBody>
      </p:sp>
      <p:pic>
        <p:nvPicPr>
          <p:cNvPr id="156" name="" descr=""/>
          <p:cNvPicPr/>
          <p:nvPr/>
        </p:nvPicPr>
        <p:blipFill>
          <a:blip r:embed="rId1"/>
          <a:stretch/>
        </p:blipFill>
        <p:spPr>
          <a:xfrm>
            <a:off x="4267080" y="3657600"/>
            <a:ext cx="4343400" cy="2666880"/>
          </a:xfrm>
          <a:prstGeom prst="rect">
            <a:avLst/>
          </a:prstGeom>
          <a:ln w="0">
            <a:noFill/>
          </a:ln>
        </p:spPr>
      </p:pic>
      <p:pic>
        <p:nvPicPr>
          <p:cNvPr id="157" name="" descr=""/>
          <p:cNvPicPr/>
          <p:nvPr/>
        </p:nvPicPr>
        <p:blipFill>
          <a:blip r:embed="rId2"/>
          <a:stretch/>
        </p:blipFill>
        <p:spPr>
          <a:xfrm>
            <a:off x="228600" y="3657600"/>
            <a:ext cx="4038480" cy="2481120"/>
          </a:xfrm>
          <a:prstGeom prst="rect">
            <a:avLst/>
          </a:prstGeom>
          <a:ln w="0">
            <a:noFill/>
          </a:ln>
        </p:spPr>
      </p:pic>
      <p:sp>
        <p:nvSpPr>
          <p:cNvPr id="15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s for banks exposed the sector boil down to one thing: overcapacity.  There is calculated to be roughly 22% overcapacity and it is therefore not surprising that prices have slumped so spectacularly.  Prices are now around 17 to 18 per MWH, down 40% from levels prior to NETA’s introduction.</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omisation of the generation sector was a function of new entrants and forced sales and pricing power was lost before NETA was introduced.</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Prices</a:t>
            </a:r>
            <a:endParaRPr b="1" lang="en-US" sz="2000" spc="-1" strike="noStrike">
              <a:solidFill>
                <a:srgbClr val="000000"/>
              </a:solidFill>
              <a:latin typeface="Arial"/>
            </a:endParaRPr>
          </a:p>
        </p:txBody>
      </p:sp>
      <p:pic>
        <p:nvPicPr>
          <p:cNvPr id="160" name="" descr=""/>
          <p:cNvPicPr/>
          <p:nvPr/>
        </p:nvPicPr>
        <p:blipFill>
          <a:blip r:embed="rId1"/>
          <a:stretch/>
        </p:blipFill>
        <p:spPr>
          <a:xfrm>
            <a:off x="2209680" y="1066680"/>
            <a:ext cx="4114800" cy="2494080"/>
          </a:xfrm>
          <a:prstGeom prst="rect">
            <a:avLst/>
          </a:prstGeom>
          <a:ln w="0">
            <a:noFill/>
          </a:ln>
        </p:spPr>
      </p:pic>
      <p:pic>
        <p:nvPicPr>
          <p:cNvPr id="161" name="" descr=""/>
          <p:cNvPicPr/>
          <p:nvPr/>
        </p:nvPicPr>
        <p:blipFill>
          <a:blip r:embed="rId2"/>
          <a:stretch/>
        </p:blipFill>
        <p:spPr>
          <a:xfrm>
            <a:off x="2125800" y="3738600"/>
            <a:ext cx="4400280" cy="2276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valuate Risk Using Model</a:t>
            </a:r>
            <a:endParaRPr b="1" lang="en-US" sz="2000" spc="-1" strike="noStrike">
              <a:solidFill>
                <a:srgbClr val="000000"/>
              </a:solidFill>
              <a:latin typeface="Arial"/>
            </a:endParaRPr>
          </a:p>
        </p:txBody>
      </p:sp>
      <p:sp>
        <p:nvSpPr>
          <p:cNvPr id="163" name="PlaceHolder 2"/>
          <p:cNvSpPr>
            <a:spLocks noGrp="1"/>
          </p:cNvSpPr>
          <p:nvPr>
            <p:ph/>
          </p:nvPr>
        </p:nvSpPr>
        <p:spPr>
          <a:xfrm>
            <a:off x="685440" y="1523880"/>
            <a:ext cx="4876920" cy="4572000"/>
          </a:xfrm>
          <a:prstGeom prst="rect">
            <a:avLst/>
          </a:prstGeom>
          <a:noFill/>
          <a:ln w="0">
            <a:noFill/>
          </a:ln>
        </p:spPr>
        <p:txBody>
          <a:bodyPr lIns="92160" rIns="92160" tIns="46080" bIns="46080" anchor="t">
            <a:normAutofit fontScale="99000"/>
          </a:bodyPr>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isk using model so that tools to mitigate risk can be evaluated.</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the theory of probability of default and loss given default in the context of project finance models.</a:t>
            </a:r>
            <a:endParaRPr b="0" lang="en-US" sz="1600" spc="-1" strike="noStrike">
              <a:solidFill>
                <a:srgbClr val="000000"/>
              </a:solidFill>
              <a:latin typeface="Arial"/>
            </a:endParaRPr>
          </a:p>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break-even price for merchant period</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DSCR to measure probability of default</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loan outstanding to measure LGD</a:t>
            </a:r>
            <a:endParaRPr b="0" lang="en-US" sz="1600" spc="-1" strike="noStrike">
              <a:solidFill>
                <a:srgbClr val="000000"/>
              </a:solidFill>
              <a:latin typeface="Arial"/>
            </a:endParaRPr>
          </a:p>
          <a:p>
            <a:pPr marL="287280" indent="-2872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break-even price in merchant case</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alternative break-even price if the financing is 40% equity.</a:t>
            </a:r>
            <a:endParaRPr b="0" lang="en-US" sz="1600" spc="-1" strike="noStrike">
              <a:solidFill>
                <a:srgbClr val="000000"/>
              </a:solidFill>
              <a:latin typeface="Arial"/>
            </a:endParaRPr>
          </a:p>
          <a:p>
            <a:pPr lvl="1" marL="963000" indent="-28728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the IRR on Debt</a:t>
            </a:r>
            <a:endParaRPr b="0" lang="en-US" sz="1600" spc="-1" strike="noStrike">
              <a:solidFill>
                <a:srgbClr val="000000"/>
              </a:solidFill>
              <a:latin typeface="Arial"/>
            </a:endParaRPr>
          </a:p>
        </p:txBody>
      </p:sp>
      <p:pic>
        <p:nvPicPr>
          <p:cNvPr id="164" name="" descr=""/>
          <p:cNvPicPr/>
          <p:nvPr/>
        </p:nvPicPr>
        <p:blipFill>
          <a:blip r:embed="rId1"/>
          <a:stretch/>
        </p:blipFill>
        <p:spPr>
          <a:xfrm>
            <a:off x="5638680" y="1828800"/>
            <a:ext cx="3086280" cy="189216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Work with Construction</a:t>
            </a:r>
            <a:endParaRPr b="1" lang="en-US" sz="2000" spc="-1" strike="noStrike">
              <a:solidFill>
                <a:srgbClr val="000000"/>
              </a:solidFill>
              <a:latin typeface="Arial"/>
            </a:endParaRPr>
          </a:p>
        </p:txBody>
      </p:sp>
      <p:sp>
        <p:nvSpPr>
          <p:cNvPr id="16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effects of construction delay and construction over-run in order to set-up LD analysis and to set-up Senior and Subordinated Debt analysi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nalysi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with bank financing (20%) and find break-even pric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construction expenditures by 30%</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construction profi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IR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DSCRs</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3: Evaluate Construction Issues and Liquidated Damage</a:t>
            </a:r>
            <a:endParaRPr b="1" lang="en-US" sz="2000" spc="-1" strike="noStrike">
              <a:solidFill>
                <a:srgbClr val="000000"/>
              </a:solidFill>
              <a:latin typeface="Arial"/>
            </a:endParaRPr>
          </a:p>
        </p:txBody>
      </p:sp>
      <p:sp>
        <p:nvSpPr>
          <p:cNvPr id="16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use the model to compute liquidated damages, evaluate risk and return tradeoffs in EPC contracts, evaluate waterfall effect of liquidated damage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LD analysis</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model with delay</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equired LD for project IRR, equity IRR, and DSCR</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LD per day</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with alternative delay scenarios</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LD with shorter life</a:t>
            </a:r>
            <a:endParaRPr b="0" lang="en-US" sz="1600" spc="-1" strike="noStrike">
              <a:solidFill>
                <a:srgbClr val="000000"/>
              </a:solidFill>
              <a:latin typeface="Arial"/>
            </a:endParaRPr>
          </a:p>
          <a:p>
            <a:pPr lvl="1" marL="963000" indent="-2872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DSCR with alternative uses of LD (debt or debt and equity)</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 Africa and Intergen example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4: Evaluate DSCRA with Model</a:t>
            </a:r>
            <a:endParaRPr b="1" lang="en-US" sz="2000" spc="-1" strike="noStrike">
              <a:solidFill>
                <a:srgbClr val="000000"/>
              </a:solidFill>
              <a:latin typeface="Arial"/>
            </a:endParaRPr>
          </a:p>
        </p:txBody>
      </p:sp>
      <p:sp>
        <p:nvSpPr>
          <p:cNvPr id="17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cost and benefits of a DSCRA as compared to other too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IRR and the DSCR with alternative levels of debt service reser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reak-even price with alternative DSCRA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 cas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chant case</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volatility</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chant Plant Activity</a:t>
            </a:r>
            <a:endParaRPr b="1" lang="en-US" sz="2000" spc="-1" strike="noStrike">
              <a:solidFill>
                <a:srgbClr val="000000"/>
              </a:solidFill>
              <a:latin typeface="Arial"/>
            </a:endParaRPr>
          </a:p>
        </p:txBody>
      </p:sp>
      <p:sp>
        <p:nvSpPr>
          <p:cNvPr id="103" name="PlaceHolder 2"/>
          <p:cNvSpPr>
            <a:spLocks noGrp="1"/>
          </p:cNvSpPr>
          <p:nvPr>
            <p:ph/>
          </p:nvPr>
        </p:nvSpPr>
        <p:spPr>
          <a:xfrm>
            <a:off x="685800" y="1523880"/>
            <a:ext cx="3921120" cy="4572000"/>
          </a:xfrm>
          <a:prstGeom prst="rect">
            <a:avLst/>
          </a:prstGeom>
          <a:noFill/>
          <a:ln w="0">
            <a:noFill/>
          </a:ln>
        </p:spPr>
        <p:txBody>
          <a:bodyPr lIns="92160" rIns="92160" tIns="46080" bIns="46080" anchor="t">
            <a:normAutofit/>
          </a:bodyPr>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S, private companies that own merchant plants have lost of more than $100 billion in market capitalization.”</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are “now highly reluctant to take merchant risk of any kind… and they are skeptical about long-term purchase or tolling contracts that in any way are considered to be out of the money.” </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erchants will have to redesign their business models. Those players that have 80-90 percent of their capital in the form of debt won't survive.  The ratings agencies have said that such debt-to-capital ratios must be in the 50-50 range to earn investment grade status so that the cost of borrowing is reasonable.” </a:t>
            </a:r>
            <a:endParaRPr b="0" lang="en-US" sz="1200" spc="-1" strike="noStrike">
              <a:solidFill>
                <a:srgbClr val="000000"/>
              </a:solidFill>
              <a:latin typeface="Arial"/>
            </a:endParaRPr>
          </a:p>
          <a:p>
            <a:pPr marL="290520" indent="-29052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rchant plant activity has been very high.</a:t>
            </a:r>
            <a:endParaRPr b="0" lang="en-US" sz="1200" spc="-1" strike="noStrike">
              <a:solidFill>
                <a:srgbClr val="000000"/>
              </a:solidFill>
              <a:latin typeface="Arial"/>
            </a:endParaRPr>
          </a:p>
        </p:txBody>
      </p:sp>
      <p:pic>
        <p:nvPicPr>
          <p:cNvPr id="104" name="" descr=""/>
          <p:cNvPicPr/>
          <p:nvPr/>
        </p:nvPicPr>
        <p:blipFill>
          <a:blip r:embed="rId1"/>
          <a:stretch/>
        </p:blipFill>
        <p:spPr>
          <a:xfrm>
            <a:off x="4724280" y="2286000"/>
            <a:ext cx="4114800" cy="24922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5: Evaluate DSCRs</a:t>
            </a:r>
            <a:endParaRPr b="1" lang="en-US" sz="2000" spc="-1" strike="noStrike">
              <a:solidFill>
                <a:srgbClr val="000000"/>
              </a:solidFill>
              <a:latin typeface="Arial"/>
            </a:endParaRPr>
          </a:p>
        </p:txBody>
      </p:sp>
      <p:sp>
        <p:nvSpPr>
          <p:cNvPr id="17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9000"/>
          </a:bodyPr>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logic of various DSCR issues in the context of how the PD measures break-even price</a:t>
            </a:r>
            <a:endParaRPr b="0" lang="en-US" sz="1800" spc="-1" strike="noStrike">
              <a:solidFill>
                <a:srgbClr val="000000"/>
              </a:solidFill>
              <a:latin typeface="Arial"/>
            </a:endParaRPr>
          </a:p>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pric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DSCRA in the numerator</a:t>
            </a:r>
            <a:endParaRPr b="0" lang="en-US" sz="1800" spc="-1" strike="noStrike">
              <a:solidFill>
                <a:srgbClr val="000000"/>
              </a:solidFill>
              <a:latin typeface="Arial"/>
            </a:endParaRPr>
          </a:p>
          <a:p>
            <a:pPr marL="2872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njections to the debt service reserve</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 accounts</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and losses on unwinding swaps</a:t>
            </a:r>
            <a:endParaRPr b="0" lang="en-US" sz="1800" spc="-1" strike="noStrike">
              <a:solidFill>
                <a:srgbClr val="000000"/>
              </a:solidFill>
              <a:latin typeface="Arial"/>
            </a:endParaRPr>
          </a:p>
          <a:p>
            <a:pPr lvl="1" marL="963000" indent="-2872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 from reserves</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Exercise Continued</a:t>
            </a:r>
            <a:endParaRPr b="1" lang="en-US" sz="2000" spc="-1" strike="noStrike">
              <a:solidFill>
                <a:srgbClr val="000000"/>
              </a:solidFill>
              <a:latin typeface="Arial"/>
            </a:endParaRPr>
          </a:p>
        </p:txBody>
      </p:sp>
      <p:sp>
        <p:nvSpPr>
          <p:cNvPr id="17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elected issu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inding Swa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winding swap if the interest rate increases results in gains, but the new swap will have a higher rate.  </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include the swap gains in cash flow for debt service</a:t>
            </a:r>
            <a:endParaRPr b="0" lang="en-US" sz="1600" spc="-1" strike="noStrike">
              <a:solidFill>
                <a:srgbClr val="000000"/>
              </a:solidFill>
              <a:latin typeface="Arial"/>
            </a:endParaRPr>
          </a:p>
          <a:p>
            <a:pPr lvl="3" marL="179064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SCR will capture future increases</a:t>
            </a:r>
            <a:endParaRPr b="0" lang="en-US" sz="16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a:t>
            </a:r>
            <a:endParaRPr b="0" lang="en-US" sz="1800" spc="-1" strike="noStrike">
              <a:solidFill>
                <a:srgbClr val="000000"/>
              </a:solidFill>
              <a:latin typeface="Arial"/>
            </a:endParaRPr>
          </a:p>
          <a:p>
            <a:pPr lvl="1" marL="97308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5: Cash Flow Restriction Exercise</a:t>
            </a:r>
            <a:endParaRPr b="1" lang="en-US" sz="2000" spc="-1" strike="noStrike">
              <a:solidFill>
                <a:srgbClr val="000000"/>
              </a:solidFill>
              <a:latin typeface="Arial"/>
            </a:endParaRPr>
          </a:p>
        </p:txBody>
      </p:sp>
      <p:sp>
        <p:nvSpPr>
          <p:cNvPr id="17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what covenants do to cash flow in alternative circumstanc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 matters mos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should be used in different circumstanc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level of covenant is be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no coven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volatility, high volatility</a:t>
            </a:r>
            <a:endParaRPr b="0" lang="en-US" sz="16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break-even with alternative covenants</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Debt Structure of the Project</a:t>
            </a:r>
            <a:endParaRPr b="1" lang="en-US" sz="2000" spc="-1" strike="noStrike">
              <a:solidFill>
                <a:srgbClr val="000000"/>
              </a:solidFill>
              <a:latin typeface="Arial"/>
            </a:endParaRPr>
          </a:p>
        </p:txBody>
      </p:sp>
      <p:sp>
        <p:nvSpPr>
          <p:cNvPr id="17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Contra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Merchan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Leverag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Teno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Structur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Interest Rate</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Plants</a:t>
            </a:r>
            <a:endParaRPr b="1" lang="en-US" sz="2000" spc="-1" strike="noStrike">
              <a:solidFill>
                <a:srgbClr val="000000"/>
              </a:solidFill>
              <a:latin typeface="Arial"/>
            </a:endParaRPr>
          </a:p>
        </p:txBody>
      </p:sp>
      <p:pic>
        <p:nvPicPr>
          <p:cNvPr id="180"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Sutton Bridge</a:t>
            </a:r>
            <a:endParaRPr b="1" lang="en-US" sz="2000" spc="-1" strike="noStrike">
              <a:solidFill>
                <a:srgbClr val="000000"/>
              </a:solidFill>
              <a:latin typeface="Arial"/>
            </a:endParaRPr>
          </a:p>
        </p:txBody>
      </p:sp>
      <p:sp>
        <p:nvSpPr>
          <p:cNvPr id="18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GBP 195 Million/US$ 150 Million Guaranteed Secured Bonds due 2022</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ating: Baa3 May 1997</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ating Factor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w Marginal Cost 790 Megawatt Gas-Fired Combined Cycle Plant</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volvement of Enron Corp. and Subsidiar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5-Year Capacity and Tolling Agreement (CTA)</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wo-Thirds of Principal Repaid During CTA Term</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ight Year Merchant Risk Period</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ransparency of UK Pool Price Setting Mechanism</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on Sutton Bridge Tolling Agreement</a:t>
            </a:r>
            <a:endParaRPr b="1" lang="en-US" sz="2000" spc="-1" strike="noStrike">
              <a:solidFill>
                <a:srgbClr val="000000"/>
              </a:solidFill>
              <a:latin typeface="Arial"/>
            </a:endParaRPr>
          </a:p>
        </p:txBody>
      </p:sp>
      <p:sp>
        <p:nvSpPr>
          <p:cNvPr id="18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utton Bridge is an Enron Corp owned and sponsored 790-megawatt combined cycle plant now under construction in the UK. It is also an excellent example of how market risks associated with sales into a competitive power market can be mitigated to a level which supports an investment grade rating.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he principal method by which the project did so was through its 15-year Capacity and Tolling Agreement with Enron Capital &amp; Trade (ECT), under which ECT has agreed to purchase generating capacity from the plant, as well as supply natural gas which will be converted by Sutton Bridge into electricity for sale into the UK pool.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n return for making itself “available” to ECT, Sutton Bridge will </a:t>
            </a:r>
            <a:r>
              <a:rPr b="1" i="1" lang="en-US" sz="1600" spc="-1" strike="noStrike">
                <a:solidFill>
                  <a:srgbClr val="0000ff"/>
                </a:solidFill>
                <a:latin typeface="Arial"/>
                <a:ea typeface="굴림"/>
              </a:rPr>
              <a:t>receive a fixed monthly capacity payment</a:t>
            </a:r>
            <a:r>
              <a:rPr b="0" lang="en-US" sz="1600" spc="-1" strike="noStrike">
                <a:solidFill>
                  <a:srgbClr val="000000"/>
                </a:solidFill>
                <a:latin typeface="Arial"/>
                <a:ea typeface="굴림"/>
              </a:rPr>
              <a:t> designed to cover, among other things, projected debt service on the not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oreover, the level and price at which Sutton Bridge will offer its power into the market will be determined solely by ECT, which would then receive the corresponding pool payments associated with a successful bid. As a result, Sutton Bridge has, during the term of the tolling arrangement, no economic exposure to changes in the market price of electricity. What’s more, since ECT is also responsible for delivering natural gas to the project, Sutton Bridge is similarly unaffected by changes in the price of its fuel.</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 on Merchant Risk</a:t>
            </a:r>
            <a:endParaRPr b="1" lang="en-US" sz="2000" spc="-1" strike="noStrike">
              <a:solidFill>
                <a:srgbClr val="000000"/>
              </a:solidFill>
              <a:latin typeface="Arial"/>
            </a:endParaRPr>
          </a:p>
        </p:txBody>
      </p:sp>
      <p:sp>
        <p:nvSpPr>
          <p:cNvPr id="18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Following expiration of the tolling agreement, however — and assuming that new hedging arrangements are not secured — Sutton Bridge’s ability to generate </a:t>
            </a:r>
            <a:r>
              <a:rPr b="1" i="1" lang="en-US" sz="1800" spc="-1" strike="noStrike">
                <a:solidFill>
                  <a:srgbClr val="0000ff"/>
                </a:solidFill>
                <a:latin typeface="Arial"/>
                <a:ea typeface="굴림"/>
              </a:rPr>
              <a:t>cash flow and service its debt will be exclusively dependent upon its production costs relative to those of other facilities competing in the pool</a:t>
            </a:r>
            <a:r>
              <a:rPr b="0" lang="en-US" sz="1800" spc="-1" strike="noStrike">
                <a:solidFill>
                  <a:srgbClr val="000000"/>
                </a:solidFill>
                <a:latin typeface="Arial"/>
                <a:ea typeface="굴림"/>
              </a:rPr>
              <a:t>. As a result, the transaction is exposed to pure “merchant” risk for the remaining term of the financing, or roughly eight year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 structure such as this presents a particular challenge from an analytical perspective, because it relies heavily on forecasts of supply and demand in the UK beginning in year 2014, and through to the bonds maturity in 2022.</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Merchant Scenarios</a:t>
            </a:r>
            <a:endParaRPr b="1" lang="en-US" sz="2000" spc="-1" strike="noStrike">
              <a:solidFill>
                <a:srgbClr val="000000"/>
              </a:solidFill>
              <a:latin typeface="Arial"/>
            </a:endParaRPr>
          </a:p>
        </p:txBody>
      </p:sp>
      <p:sp>
        <p:nvSpPr>
          <p:cNvPr id="18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During this period, the Sutton Bridge market forecast (prepared by Ilex Associates) assumes, for the sake of conservatism, that </a:t>
            </a:r>
            <a:r>
              <a:rPr b="1" i="1" lang="en-US" sz="1200" spc="-1" strike="noStrike">
                <a:solidFill>
                  <a:srgbClr val="0000ff"/>
                </a:solidFill>
                <a:latin typeface="Arial"/>
                <a:ea typeface="굴림"/>
              </a:rPr>
              <a:t>the plant will not be dispatched, and that all project revenues are exclusively derived from the pool’s reliability premiums</a:t>
            </a:r>
            <a:r>
              <a:rPr b="0" lang="en-US" sz="1200" spc="-1" strike="noStrike">
                <a:solidFill>
                  <a:srgbClr val="000000"/>
                </a:solidFill>
                <a:latin typeface="Arial"/>
                <a:ea typeface="굴림"/>
              </a:rPr>
              <a:t>. While an unlikely scenario, the model implicitly recognizes that, by that point, most, if not all of the system’s relatively inefficient generation will have been displaced, and that Sutton Bridge’s profitability will be primarily derived from the value of its capacity. For this reason, the analysis focused on which specific plant would be setting the capacity prices on the system.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Under the most likely assumption, which is that capacity prices would be set by a baseloaded combined cycle plant, </a:t>
            </a:r>
            <a:r>
              <a:rPr b="1" i="1" lang="en-US" sz="1200" spc="-1" strike="noStrike">
                <a:solidFill>
                  <a:srgbClr val="0000ff"/>
                </a:solidFill>
                <a:latin typeface="Arial"/>
                <a:ea typeface="굴림"/>
              </a:rPr>
              <a:t>debt service coverage ratios average 2.5 times during the merchant period,</a:t>
            </a:r>
            <a:r>
              <a:rPr b="0" lang="en-US" sz="1200" spc="-1" strike="noStrike">
                <a:solidFill>
                  <a:srgbClr val="000000"/>
                </a:solidFill>
                <a:latin typeface="Arial"/>
                <a:ea typeface="굴림"/>
              </a:rPr>
              <a:t> and remain at sufficiently robust levels under a wide range of forecast gas prices. In fact, the only scenario where Sutton Bridge’s economics are materially threatened is under what is called the “retention” case, which refers to an environment where the value of capacity is determined by the cost of retaining the most costly plant on the system (the Net Avoidable Cost, or NAC). </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is could occur under either of two scenarios, one of which is that new power stations are so cost effective that there would be an economic incentive to build them ahead of an immediate need for new capacity — a situation which would require unrealistically high gas prices, in order for the NAC to exceed the cost of a new station. </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The second scenario in which the NAC could set the value of capacity is where large-scale government or regulatory intervention in support of “low carbon” environmental policies leads to the construction of new capacity ahead of need, but even if it is uneconomic to do so. The probability of occurrence for either of these cases — which would imply, based on what we know today, something less than rational market behavior or regulatory policy — is regarded as sufficiently remote to support the final Baa3 rating.</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Comments on Sutton Bridge</a:t>
            </a:r>
            <a:endParaRPr b="1" lang="en-US" sz="2000" spc="-1" strike="noStrike">
              <a:solidFill>
                <a:srgbClr val="000000"/>
              </a:solidFill>
              <a:latin typeface="Arial"/>
            </a:endParaRPr>
          </a:p>
        </p:txBody>
      </p:sp>
      <p:sp>
        <p:nvSpPr>
          <p:cNvPr id="19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nron’s Sutton Bridge Power project in the U.K. is an example of a tolling plant. The other version of a tolling plant entails a tolling agreement with the power purchaser; the power purchaser decides when to pull gas through the plant, how much electricity to generate, and what market price to accep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Enron’s Sutton Bridge Power project uses the GE F9A+ turbine, which has had various technology problems. Hence, </a:t>
            </a:r>
            <a:r>
              <a:rPr b="1" i="1" lang="en-US" sz="1800" spc="-1" strike="noStrike">
                <a:solidFill>
                  <a:srgbClr val="0000ff"/>
                </a:solidFill>
                <a:latin typeface="Arial"/>
                <a:ea typeface="굴림"/>
              </a:rPr>
              <a:t>the project carries technology insurance, although General Electric will pay the premium surcharge cost</a:t>
            </a:r>
            <a:r>
              <a:rPr b="0" lang="en-US" sz="1800" spc="-1" strike="noStrike">
                <a:solidFill>
                  <a:srgbClr val="000000"/>
                </a:solidFill>
                <a:latin typeface="Arial"/>
                <a:ea typeface="굴림"/>
              </a:rPr>
              <a: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utton Bridge Power and LS Batesville projects feature tolling agreements that remove market risk until the merchant period begins. In Australia, the large brown coal plants that the state sold as part of the privatization scheme are now single asset generating facilities structured as projects, relying on vesting contracts in part to mitigate demand-side risk.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entina Example of Merchant Problems</a:t>
            </a:r>
            <a:endParaRPr b="1" lang="en-US" sz="2000" spc="-1" strike="noStrike">
              <a:solidFill>
                <a:srgbClr val="000000"/>
              </a:solidFill>
              <a:latin typeface="Arial"/>
            </a:endParaRPr>
          </a:p>
        </p:txBody>
      </p:sp>
      <p:sp>
        <p:nvSpPr>
          <p:cNvPr id="10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rgentina, plant efficiency, over-capacity and increased hydro generation caused financial problems with project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914400" y="2286000"/>
            <a:ext cx="4038480" cy="2082960"/>
          </a:xfrm>
          <a:prstGeom prst="rect">
            <a:avLst/>
          </a:prstGeom>
          <a:ln w="0">
            <a:noFill/>
          </a:ln>
        </p:spPr>
      </p:pic>
      <p:pic>
        <p:nvPicPr>
          <p:cNvPr id="108" name="" descr=""/>
          <p:cNvPicPr/>
          <p:nvPr/>
        </p:nvPicPr>
        <p:blipFill>
          <a:blip r:embed="rId2"/>
          <a:stretch/>
        </p:blipFill>
        <p:spPr>
          <a:xfrm>
            <a:off x="5105520" y="2438280"/>
            <a:ext cx="3217680" cy="1920960"/>
          </a:xfrm>
          <a:prstGeom prst="rect">
            <a:avLst/>
          </a:prstGeom>
          <a:ln w="0">
            <a:noFill/>
          </a:ln>
        </p:spPr>
      </p:pic>
      <p:pic>
        <p:nvPicPr>
          <p:cNvPr id="109" name="" descr=""/>
          <p:cNvPicPr/>
          <p:nvPr/>
        </p:nvPicPr>
        <p:blipFill>
          <a:blip r:embed="rId3"/>
          <a:stretch/>
        </p:blipFill>
        <p:spPr>
          <a:xfrm>
            <a:off x="2057400" y="4267080"/>
            <a:ext cx="5495760" cy="20433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Comments by S&amp;P</a:t>
            </a:r>
            <a:endParaRPr b="1" lang="en-US" sz="2000" spc="-1" strike="noStrike">
              <a:solidFill>
                <a:srgbClr val="000000"/>
              </a:solidFill>
              <a:latin typeface="Arial"/>
            </a:endParaRPr>
          </a:p>
        </p:txBody>
      </p:sp>
      <p:sp>
        <p:nvSpPr>
          <p:cNvPr id="19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tton Bridge Financing Ltd. (U.K.) BBB- Stabl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the plant over the summer has been good and in line with expectation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levels have been above budget.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annual maintenance is planned for March 2005. The plant has been running well as a base-load plant since commercial operations bega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pacity and tolling agreement with EDF Energy PLC continues to result in a stable financial performance as no price or volumes risk is taken. </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ward</a:t>
            </a:r>
            <a:endParaRPr b="1" lang="en-US" sz="2000" spc="-1" strike="noStrike">
              <a:solidFill>
                <a:srgbClr val="000000"/>
              </a:solidFill>
              <a:latin typeface="Arial"/>
            </a:endParaRPr>
          </a:p>
        </p:txBody>
      </p:sp>
      <p:sp>
        <p:nvSpPr>
          <p:cNvPr id="19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RON EUROPE WINS 1997 JAMES H. McGRAW AWARD FOR SUTTON BRIDGE BOND FINANCING </a:t>
            </a:r>
            <a:r>
              <a:rPr b="0" lang="en-US" sz="1600" spc="-1" strike="noStrike">
                <a:solidFill>
                  <a:srgbClr val="000000"/>
                </a:solidFill>
                <a:latin typeface="Arial"/>
              </a:rPr>
              <a:t>Friday, November 7, 1997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DON - Enron Europe Limited has been awarded a 1997 James H. McGraw Award for Business Excellence from Electrical World Magazine for the bond financing of the Sutton Bridge power station.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honouring Enron Europe for the financing of the £337 million project, the editors noted that the bond issue "highlights the project's innovative structure and financing arrangements, in particular its precedent-setting power sales agreement and risk management component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tton Bridge's BBB bond rating reflects Enron's carefully crafted financial features that successfully mesh innovation and sound economics by balancing contractual commitment, merchant risk and ties to natural gas sale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tton Bridge power station project, which is set to begin commercial operation in March 1999, is a 790 MW combined-cycle gas turbine plant in Lincolnshire, UK.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ffrey McMahon, vice president and chief financial officer of Enron Europe Limited, accepted the award at a ceremony in Washington, D.C. </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Utility Enron puts Sutton Bridge Power Plant up for Sale </a:t>
            </a:r>
            <a:br>
              <a:rPr sz="2000"/>
            </a:br>
            <a:endParaRPr b="1" lang="en-US" sz="2000" spc="-1" strike="noStrike">
              <a:solidFill>
                <a:srgbClr val="000000"/>
              </a:solidFill>
              <a:latin typeface="Arial"/>
            </a:endParaRPr>
          </a:p>
        </p:txBody>
      </p:sp>
      <p:sp>
        <p:nvSpPr>
          <p:cNvPr id="19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n, the Texas-based utility which owns Wessex Water, has put its Sutton Bridge gas-fired power plant up for sale it emerged yesterday, less than a year after the station supplied its first electricity to the Grid.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erican firm, which has invested £370m in the plant, has retained investment bank Dresdner Kleinwort Benson to handle the auction after receiving a number of unsolicited approaches.  An Enron official said the group had decided to divest the 790 megawatt plant near Kings Lynn in Lincolnshire because of the clear demand in an increasingly competitive market. The price will include a premium because of the current moratorium on building new gas-fired plant. Potential buyers could include British Energy, Scottish &amp; Southern Energy, Electricité de France, Centrica and a clutch of American power group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have been some major changes in the UK market and we had become aware that there was some interest in Sutton Bridge," the official said.  "We are very much committed to owning and generating capacity in the UK but always keep assets under review to see if capital could not be better deployed elsewhere."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n has another older plant in Teeside and has a planning application lodged for a 1,200 megawatt plant in Kent. The demand for assets was sharply illustrated by the sale of Drax, the National Power coal-fired power station which sold two weeks ago to US producer AES for a higher than expected £1.87bn. The sale reduced National Power's market share to just 12% from 46% at privatisation.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Gen had earlier disposed of two plants generating a similar 4,000 megawatts to Mission Energy of the US for £1.25bn. The power supply map is being rewritten by demands from the government to increase competition through forced sell-offs.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ing Agreements</a:t>
            </a:r>
            <a:endParaRPr b="1" lang="en-US" sz="2000" spc="-1" strike="noStrike">
              <a:solidFill>
                <a:srgbClr val="000000"/>
              </a:solidFill>
              <a:latin typeface="Arial"/>
            </a:endParaRPr>
          </a:p>
        </p:txBody>
      </p:sp>
      <p:sp>
        <p:nvSpPr>
          <p:cNvPr id="19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erms of risk allocation, tolling arrangements are similar to power purchase agreements in that they provide a stable stream of cash flow in the form of contractually based revenues. In many tolling arrangements that Standard &amp; Poor's has reviewed, the risks that remain with the plant owner and operator are less severe than those remaining under a power purchase agreement with a utility. A typical tolling arrangement clearly delineates risk-sharing between the plant owner and the tolling party. In many such agreements, the risks assumed by the plant owner are reduced to availability of plant and plant efficiency. For greenfield projects, the owner often accepts construction risk, which can also be effectively mitigated under turnkey construction contracts.   </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Issues in the Case</a:t>
            </a:r>
            <a:endParaRPr b="1" lang="en-US" sz="2000" spc="-1" strike="noStrike">
              <a:solidFill>
                <a:srgbClr val="000000"/>
              </a:solidFill>
              <a:latin typeface="Arial"/>
            </a:endParaRPr>
          </a:p>
        </p:txBody>
      </p:sp>
      <p:sp>
        <p:nvSpPr>
          <p:cNvPr id="20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the contract be computed using goal seek and solv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break-even analysis be perform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leverage be computed with and without the contract</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D for Delay in Completion</a:t>
            </a:r>
            <a:endParaRPr b="1" lang="en-US" sz="2000" spc="-1" strike="noStrike">
              <a:solidFill>
                <a:srgbClr val="000000"/>
              </a:solidFill>
              <a:latin typeface="Arial"/>
            </a:endParaRPr>
          </a:p>
        </p:txBody>
      </p:sp>
      <p:sp>
        <p:nvSpPr>
          <p:cNvPr id="20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Contractor fail to achieve Commercial Operation of a Unit by the  Scheduled Date of Commercial Operation for such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in the amount of FORTY THOUSAND DOLLARS ($40,000) per Unit for each full Day or part thereof by which Commercial Operation of such Unit occurs later than the Scheduled Date of Commercial Operation for such Unit up to and including the fourteenth (14th) Day after the Scheduled Date of Commercial Operation for such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fourteenth (14th) Day after the Scheduled Date of Commercial Operation for such Unit up to and including the thirtieth (30th) Day after the Scheduled Date of Commercial Operation for such Unit, Contractor shall be subject to liquidated damages in the amount of SIXTY FIVE THOUSAND DOLLARS ($65,000) per Unit.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full Day or part thereof by which Commercial Operation of a Unit occurs later than the thirtieth(30th) Day after the Scheduled Date of Commercial Operation for such Unit, Contractor shall be subject to liquidated damages in the amount of EIGHTY TWO THOUSAND DOLLARS ($82,000) per Unit. </a:t>
            </a:r>
            <a:endParaRPr b="0" lang="en-US" sz="16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Completion Continued</a:t>
            </a:r>
            <a:endParaRPr b="1" lang="en-US" sz="2000" spc="-1" strike="noStrike">
              <a:solidFill>
                <a:srgbClr val="000000"/>
              </a:solidFill>
              <a:latin typeface="Arial"/>
            </a:endParaRPr>
          </a:p>
        </p:txBody>
      </p:sp>
      <p:sp>
        <p:nvSpPr>
          <p:cNvPr id="20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iquidated damages shall continue to accrue until Commercial Operation for such Unit is achieved or the limit set forth in Section 14.1 is reached, whichever is earlier; provided that, if Contractor has not previously achieved Commercial Operation of a Unit under this Agreemen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deemed to have achieved Commercial Operation of a Unit (but only for purpose of determining liquidated damages under this Section) on the date on which Owner achieves Commercial Operation of such Unit under the Power Purchase Agreement,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ly if net power output for such Unit is at least 148,590 KW of electricity </a:t>
            </a:r>
            <a:endParaRPr b="0" lang="en-US" sz="1600" spc="-1" strike="noStrike">
              <a:solidFill>
                <a:srgbClr val="000000"/>
              </a:solidFill>
              <a:latin typeface="Arial"/>
            </a:endParaRPr>
          </a:p>
          <a:p>
            <a:pPr lvl="1" marL="97308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the net heat rate for such Unit is not greater than 11,217 BTU/KW-HR (HHV) on natural gas and  11,362 BTU/KW-HR (HHV) on fuel oil as measured in the most recent Performance Test for such Unit. </a:t>
            </a:r>
            <a:endParaRPr b="0" lang="en-US" sz="1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and Retainage</a:t>
            </a:r>
            <a:endParaRPr b="1" lang="en-US" sz="2000" spc="-1" strike="noStrike">
              <a:solidFill>
                <a:srgbClr val="000000"/>
              </a:solidFill>
              <a:latin typeface="Arial"/>
            </a:endParaRPr>
          </a:p>
        </p:txBody>
      </p:sp>
      <p:sp>
        <p:nvSpPr>
          <p:cNvPr id="20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respect to the amount of liquidated damages which is a reduction to the Guaranteed Lump Sum Price,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have the right to deduct the amount(s) of such liquidated damages from the next payment(s) due to Contractor after the due date of the liquidated damages and from Owner's Security, until the total amount of the liquidated damages has been deducted; </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however, Contractor shall, within fifteen (15) Days after written demand, refund to Owner the payments made by Owner on the Guaranteed Lump Sum Price to the extent the payments made to Contractor exceed the Guaranteed Lump Sum Price reduced pursuant to this Section 13.6 and the Owner's Security which is not needed to satisfy other claims against Owner's Security as provided herein. If the aggregate liquidated damages paid by Contractor on a Unit by Unit basis exceeds the final liquidated damages determined as set forth in Sections 13.3 and 13.4, </a:t>
            </a:r>
            <a:endParaRPr b="0" lang="en-US" sz="14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shall pay to Contractor such excess amount within fifteen (15) days of the final determination of such liquidated damages. That portion of any payment or refund of liquidated damages which is not paid when due, as provided in Section 12.3(c), 13.6 and 13.7, shall bear interest at the prime rate as determined by the annual prime rate of The Chase Manhattan Bank as of the date due, plus one percent (1%), but not in excess of the lawful maximum rate.</a:t>
            </a:r>
            <a:endParaRPr b="0" lang="en-US" sz="16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a:t>
            </a:r>
            <a:endParaRPr b="1" lang="en-US" sz="2000" spc="-1" strike="noStrike">
              <a:solidFill>
                <a:srgbClr val="000000"/>
              </a:solidFill>
              <a:latin typeface="Arial"/>
            </a:endParaRPr>
          </a:p>
        </p:txBody>
      </p:sp>
      <p:sp>
        <p:nvSpPr>
          <p:cNvPr id="20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liquidated damages Contractor is subject to, or is liable for pursuant to the terms of this Agreement, except for liquidated damages under Section 13.7, shall be a reduction to the Guaranteed Lump Sum Price.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as otherwise provided in Sections 12.3(c) and 13.7, liquidated damages which accrue pursuant to Sections 13.3, 13.4 and 13.5 for each Unit shall become due to Owner on the later of the fifth (5th) Business Day after (i) the conclusion of Performance Testing for such Unit,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i) the date of Commercial Operations for such Unit, </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final adjustment pursuant to Sections 13.3 and 13.4 following Commercial Operation of the last Unit. Liquidated damages payable pursuant to Section 13.7</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LD Payments</a:t>
            </a:r>
            <a:endParaRPr b="1" lang="en-US" sz="2000" spc="-1" strike="noStrike">
              <a:solidFill>
                <a:srgbClr val="000000"/>
              </a:solidFill>
              <a:latin typeface="Arial"/>
            </a:endParaRPr>
          </a:p>
        </p:txBody>
      </p:sp>
      <p:sp>
        <p:nvSpPr>
          <p:cNvPr id="21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ated Damages under this Section 13.1 shall be calculated and become due to Owner </a:t>
            </a:r>
            <a:r>
              <a:rPr b="1" i="1" lang="en-US" sz="1400" spc="-1" strike="noStrike">
                <a:solidFill>
                  <a:srgbClr val="0000ff"/>
                </a:solidFill>
                <a:latin typeface="Arial"/>
              </a:rPr>
              <a:t>fifteen (15) days after the  scheduled Date of Commercial Operation</a:t>
            </a:r>
            <a:r>
              <a:rPr b="0" lang="en-US" sz="1400" spc="-1" strike="noStrike">
                <a:solidFill>
                  <a:srgbClr val="000000"/>
                </a:solidFill>
                <a:latin typeface="Arial"/>
              </a:rPr>
              <a:t> for such Unit and shall continue to accrue and be subject to recalculation on the same day of each succeeding month until Commercial Operation is achieved for such Unit or the limit set forth in Section 14.1 is reached. </a:t>
            </a:r>
            <a:endParaRPr b="0" lang="en-US" sz="1400" spc="-1" strike="noStrike">
              <a:solidFill>
                <a:srgbClr val="000000"/>
              </a:solidFill>
              <a:latin typeface="Arial"/>
            </a:endParaRPr>
          </a:p>
          <a:p>
            <a:pPr lvl="1" marL="973080" indent="-29052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liquidated damages due from Contractor pursuant to this Section 13.1 with respect to a Unit shall be </a:t>
            </a:r>
            <a:r>
              <a:rPr b="1" i="1" lang="en-US" sz="1400" spc="-1" strike="noStrike">
                <a:solidFill>
                  <a:srgbClr val="0000ff"/>
                </a:solidFill>
                <a:latin typeface="Arial"/>
              </a:rPr>
              <a:t>offset by Net Revenue</a:t>
            </a:r>
            <a:r>
              <a:rPr b="0" lang="en-US" sz="1400" spc="-1" strike="noStrike">
                <a:solidFill>
                  <a:srgbClr val="000000"/>
                </a:solidFill>
                <a:latin typeface="Arial"/>
              </a:rPr>
              <a:t>, if any, received by Owner from the operation of such Unit prior to the Commercial Operation of such Unit or the deemed Commercial Operation of the Unit under Section 12.3(c). </a:t>
            </a:r>
            <a:endParaRPr b="0" lang="en-US" sz="1400" spc="-1" strike="noStrike">
              <a:solidFill>
                <a:srgbClr val="000000"/>
              </a:solidFill>
              <a:latin typeface="Arial"/>
            </a:endParaRPr>
          </a:p>
          <a:p>
            <a:pPr lvl="1" marL="973080" indent="-29052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venue for such purpose shall mean an amount equal to gross revenue (less any taxes payable on the receipt of such revenue) received or accrued by Owner for such Days from the sale of power, to the extent properly allocable to such Days in accordance with generally accepted accounting principles, consistently applied, less the sum of all costs incurred or accrued by Owner in generating such revenue, including costs of labor, fuel (including transportation), maintenance, consumables, and supplies (but not including any financing costs or charges), to the extent properly allocable to such Days in accordance with generally accepted accounting principles, consistently applied and less any liquidated damages paid by Owner under the Power Purchase Agreement as a result of the delay in Commercial Operation of such Uni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gentina Example – AES Panera</a:t>
            </a:r>
            <a:endParaRPr b="1" lang="en-US" sz="2000" spc="-1" strike="noStrike">
              <a:solidFill>
                <a:srgbClr val="000000"/>
              </a:solidFill>
              <a:latin typeface="Arial"/>
            </a:endParaRPr>
          </a:p>
        </p:txBody>
      </p:sp>
      <p:sp>
        <p:nvSpPr>
          <p:cNvPr id="111"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Cycle Plant (830 MW)</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AES and CEA; Plant Cost $448 Mill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154 Million:  34%</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B – A Loan      $  66 Million:  15%;  14.5 Year</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B – B Loan      $  66 Million:  15%:   12.5 Year</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XM Direct        $ 81 Million:  19%</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XM Comml      $ 81 Million:  19%</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term Contrac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Operation – 1999</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DSCR’s – 2.31 in first 5 year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pped Cash</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 Mechanism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Looking Financial Ratios</a:t>
            </a:r>
            <a:endParaRPr b="0" lang="en-US" sz="1200" spc="-1" strike="noStrike">
              <a:solidFill>
                <a:srgbClr val="000000"/>
              </a:solidFill>
              <a:latin typeface="Arial"/>
            </a:endParaRPr>
          </a:p>
          <a:p>
            <a:pPr lvl="1" marL="973080" indent="-29052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onth Debt Service Reserve</a:t>
            </a:r>
            <a:endParaRPr b="0" lang="en-US" sz="1200" spc="-1" strike="noStrike">
              <a:solidFill>
                <a:srgbClr val="000000"/>
              </a:solidFill>
              <a:latin typeface="Arial"/>
            </a:endParaRPr>
          </a:p>
          <a:p>
            <a:pPr marL="29052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LD Limits</a:t>
            </a:r>
            <a:endParaRPr b="1" lang="en-US" sz="2000" spc="-1" strike="noStrike">
              <a:solidFill>
                <a:srgbClr val="000000"/>
              </a:solidFill>
              <a:latin typeface="Arial"/>
            </a:endParaRPr>
          </a:p>
        </p:txBody>
      </p:sp>
      <p:sp>
        <p:nvSpPr>
          <p:cNvPr id="21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s total aggregate liability for liquidated damages under this Section 13.1shall not exceed twenty two and one half percent (22 1/2%) of the Guaranteed Lump Sum Pric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ggregate liability of Contractor for liquidated damages under this Agreement shall not exceed an amount equal to thirty percent (30%) of the Guaranteed Lump Sum Price, as amended pursuant to this Agreement, excluding any reduction in the Guaranteed Lump Sum Price made for liquidated damages pursuant to Section 13.6.</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 Damage for Output</a:t>
            </a:r>
            <a:endParaRPr b="1" lang="en-US" sz="2000" spc="-1" strike="noStrike">
              <a:solidFill>
                <a:srgbClr val="000000"/>
              </a:solidFill>
              <a:latin typeface="Arial"/>
            </a:endParaRPr>
          </a:p>
        </p:txBody>
      </p:sp>
      <p:sp>
        <p:nvSpPr>
          <p:cNvPr id="21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represents, covenants and warrants that the Plant shall produce and deliver for sale a net power output ("Commercial Operation Output") of at least 938,460 KW of electricity when measured in Performance Tests in accordance with Exhibit D.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 shall be subject to liquidated damages of THREE HUNDRED DOLLARS ($300) per KW for each KW that Commercial Operation Output is less than 938,460 KW as measured in the most recent Performance Tests;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d that for the purpose of finally determining liquidated damages related to Commercial Operation Output, Commercial Operation Output shall be aggregated for the six Units (based upon the final Performance Test for each Unit) as adjusted for transformer losses, auxiliary loads and balance of plant restrictions determined during the tests for Plant Commercial Operation set forth in Section 2.1.4 and 2.4.2 of Exhibit D, </a:t>
            </a:r>
            <a:endParaRPr b="0" lang="en-US" sz="1600" spc="-1" strike="noStrike">
              <a:solidFill>
                <a:srgbClr val="000000"/>
              </a:solidFill>
              <a:latin typeface="Arial"/>
            </a:endParaRPr>
          </a:p>
          <a:p>
            <a:pPr lvl="1" marL="973080" indent="-29052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quidated damages, if any, shall be computed based upon the aggregate Commercial Operation Outpu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 total aggregate liability for liquidated damages under this Section 13.3 shall not exceed twenty two and one half percent (22 1/2%) of the Guaranteed Lump Sum Price.</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for Heat Rate</a:t>
            </a:r>
            <a:endParaRPr b="1" lang="en-US" sz="2000" spc="-1" strike="noStrike">
              <a:solidFill>
                <a:srgbClr val="000000"/>
              </a:solidFill>
              <a:latin typeface="Arial"/>
            </a:endParaRPr>
          </a:p>
        </p:txBody>
      </p:sp>
      <p:sp>
        <p:nvSpPr>
          <p:cNvPr id="21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represents, covenants and warrants that the Units shall operate at a net heat rate ("Commercial Operation Net Heat Rates") Ten Thousand Six Hundr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y Three (10,683) BTU/KW-HR (HHV) or less per Unit when operated on natural gas and Ten Thousand Eight Hundred Twenty One (10,821) BTU/KW-HR (HHV) or less per Unit when operated on fuel oil when measured in Performance Tests in accordance with Exhibit "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or shall be subject to liquidated damages of FIVE THOUSAND EIGHT HUNDRED SIXTY DOLLARS ($5,860) per BTU/KW-HR for each BTU/KW-HR that Commercial Net Heat Rate exceeds Ten Thousand Six Hundred Eighty Three (10,683) BTU/KW-HR (HHV) per  Unit when operated on natural gas plus NINE HUNDRED FIFTY DOLLARS ($950) per BTU/KW-HR for each BTU/KW-HR that Commercial Net Heat Rate exceeds Ten Thousand Eight Hundred Twenty One (10,821) BTU/KW-HR (HHV) per Unit when operated on fuel oil as measured in the most recent Performance Tests; </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18"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d that for the purpose of finally 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set forth in Section 2.1.4 and 2.4.2 of Exhibit D, and liquidated damages, if any, shall be computed based upon the per Unit average Commercial Net Heat Rate for natural gas and fuel oil. Prior to the computation of liquidated damages for net heat rate of the entire Plant as set forth above in this Section 13.4, Contractor shall, at such times as are provided in this Agreement, pay to Owner liquidated damages of FIVE THOUSAND EIGHT HUNDRED SIXTY DOLLARS ($5,860) per BTU/KW-HR for each BTU/KW-HR that the net heat rate of a Unit exceeds Ten Thousand Six Hundred Eighty Three  (10,683) BTU/KW-HR (HHV) when operated on natural gas, plus NINE HUNDRED FIFTY DOLLARS ($950) per BTU/KW-HR  for each BTU/KW-HR that the net heat rate of a Unit exceeds Ten Thousand Eight Hundred  Twenty One (10,821) BTU/KW-HR (HHV) ("Unit Heat Rate Requirements") when operated on fuel oil, as measured in the most recent Performance Tests for such  Unit, with such amounts of liquidated damages being subject to adjustment as set forth above based upon the net heat rate of all of the Units in the Plant when operated on natural gas and fuel oil. Contractor shall have the right to retest as set forth in Section 12.3(b), (c) and (d). Contractor's total aggregate liability for liquidated damages under this Section 13.4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Covenant</a:t>
            </a:r>
            <a:endParaRPr b="1" lang="en-US" sz="2000" spc="-1" strike="noStrike">
              <a:solidFill>
                <a:srgbClr val="000000"/>
              </a:solidFill>
              <a:latin typeface="Arial"/>
            </a:endParaRPr>
          </a:p>
        </p:txBody>
      </p:sp>
      <p:sp>
        <p:nvSpPr>
          <p:cNvPr id="220"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o the guarantees for Commercial Operation Output and Commercial Operation Net Heat Rate set forth in Sections 13.3 and 13.4, which shall be applicable for the purpose of determining liquidated damages, Contractor warrants and represents that the net power output of all Units (as finally determined pursuant to Section 13.3) shall be at least 891,540 KW of electricity and the net heat rate for all Units (as finally determined pursuant to Section 13.4) shall be not greater than 11,217 BTU/KW-HR (HHV) per Unit when operated on natural gas and than 11,362 BTU/KW-HR (HHV) per Unit when operated on fuel oil ("Performance Minimums"). If Commercial Operation Output and Commercial Operation Net Heat Rate for all of the Units as determined by the most recent Performance Tests achieve the Performance Minimums, then subject to compliance with Section 12.3 (d), liquidated damages as provided in Sections 13.3 and 13.4 shall relieve Contractor of further liability for failure to comply with the performance requirements for Commercial Operation Output and Commercial Operation Net Heat Rate for such Units.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of EPC</a:t>
            </a:r>
            <a:endParaRPr b="1" lang="en-US" sz="2000" spc="-1" strike="noStrike">
              <a:solidFill>
                <a:srgbClr val="000000"/>
              </a:solidFill>
              <a:latin typeface="Arial"/>
            </a:endParaRPr>
          </a:p>
        </p:txBody>
      </p:sp>
      <p:sp>
        <p:nvSpPr>
          <p:cNvPr id="222"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 to the right of Owner to terminate this Agreement pursuant to Section 18.1(c), if Contractor achieves the Performance Minimums for all Units, liquidated damages as provided in Section13.3 and Section 13.4 shall be the sole remedy of Owner for failure of Contractor to meet the Section 13.3 and Section 13.4 guarantees. Upon reduction of the Guaranteed Lump Price or payment in accordance with Section 13.6 for final liquidated damages under Section 13.3 and/or Section 13.4, the guarantees set forth in Section 13.3 and Section 13.4 for Commercial Operation Output and Commercial Operation Net Heat Rate shall be satisfied, and Contractor shall have no further liability for such guarante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24"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  Financial  Condition  Covenant.   Permit  the  ratio  of  Consolidated Indebtedness  to  Consolidated  Capitalization  as at the last day of any fiscal quarter to exceed 0.64:1.0.</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ions on Distributions</a:t>
            </a:r>
            <a:endParaRPr b="1" lang="en-US" sz="2000" spc="-1" strike="noStrike">
              <a:solidFill>
                <a:srgbClr val="000000"/>
              </a:solidFill>
              <a:latin typeface="Arial"/>
            </a:endParaRPr>
          </a:p>
        </p:txBody>
      </p:sp>
      <p:sp>
        <p:nvSpPr>
          <p:cNvPr id="226"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6.14 Distributions.</a:t>
            </a:r>
            <a:r>
              <a:rPr b="0" lang="en-US" sz="1400" spc="-1" strike="noStrike">
                <a:solidFill>
                  <a:srgbClr val="000000"/>
                </a:solidFill>
                <a:latin typeface="Arial"/>
              </a:rPr>
              <a:t> The Borrower will not declare or make any Distribution if (a) a Default, Event of Default or Downgrade Event has occurred and is continuing or shall occur after giving effect to such Distribution, (b) the Ratio of Cash Flow to Fixed Charges of the Borrower determined as of the end of the immediately preceding fiscal quarter was not at least 2.0:1.0 or (c) the Borrower fails to satisfy the requirements of the test set forth in Section 6.15(b), or the Borrower fails to have a Consolidated Net Worth of at least $2.15 billion, in each case calculated on a </a:t>
            </a:r>
            <a:r>
              <a:rPr b="0" i="1" lang="en-US" sz="1400" spc="-1" strike="noStrike">
                <a:solidFill>
                  <a:srgbClr val="000000"/>
                </a:solidFill>
                <a:latin typeface="Arial"/>
              </a:rPr>
              <a:t>pro forma </a:t>
            </a:r>
            <a:r>
              <a:rPr b="0" lang="en-US" sz="1400" spc="-1" strike="noStrike">
                <a:solidFill>
                  <a:srgbClr val="000000"/>
                </a:solidFill>
                <a:latin typeface="Arial"/>
              </a:rPr>
              <a:t>basis as of the end of the most recent fiscal period with respect to which financial statements of the Borrower are available (assuming such Distribution and all material events with respect to the Borrower and its Subsidiaries which occurred after the end of such fiscal period had occurred on the last day of such fiscal period); </a:t>
            </a:r>
            <a:r>
              <a:rPr b="0" i="1" lang="en-US" sz="1400" spc="-1" strike="noStrike">
                <a:solidFill>
                  <a:srgbClr val="000000"/>
                </a:solidFill>
                <a:latin typeface="Arial"/>
              </a:rPr>
              <a:t>provided </a:t>
            </a:r>
            <a:r>
              <a:rPr b="0" lang="en-US" sz="1400" spc="-1" strike="noStrike">
                <a:solidFill>
                  <a:srgbClr val="000000"/>
                </a:solidFill>
                <a:latin typeface="Arial"/>
              </a:rPr>
              <a:t>that the Borrower may declare and make Distributions of assets of or equity ownership interests in any Unrestricted Subsidiary at any time without complying with the foregoing.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SECTION 6.15 Financial Covenants.</a:t>
            </a:r>
            <a:r>
              <a:rPr b="0" lang="en-US" sz="1400" spc="-1" strike="noStrike">
                <a:solidFill>
                  <a:srgbClr val="000000"/>
                </a:solidFill>
                <a:latin typeface="Arial"/>
              </a:rPr>
              <a:t>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The Borrower shall not, as of the end of each fiscal quarter, permit the Ratio of Cash Flow to Fixed Charges to be less than 1.5:1.0.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  The Borrower shall not, as of the end of each fiscal quarter, permit the Ratio of Debt to Capitalization to be greater than 0.6:1.0.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Construction Costs and Financing</a:t>
            </a:r>
            <a:endParaRPr b="1" lang="en-US" sz="2000" spc="-1" strike="noStrike">
              <a:solidFill>
                <a:srgbClr val="000000"/>
              </a:solidFill>
              <a:latin typeface="Arial"/>
            </a:endParaRPr>
          </a:p>
        </p:txBody>
      </p:sp>
      <p:pic>
        <p:nvPicPr>
          <p:cNvPr id="113"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dity Prices Merchant Electricity Plant Financing in UK</a:t>
            </a:r>
            <a:endParaRPr b="1" lang="en-US" sz="2000" spc="-1" strike="noStrike">
              <a:solidFill>
                <a:srgbClr val="000000"/>
              </a:solidFill>
              <a:latin typeface="Arial"/>
            </a:endParaRPr>
          </a:p>
        </p:txBody>
      </p:sp>
      <p:sp>
        <p:nvSpPr>
          <p:cNvPr id="115" name="PlaceHolder 2"/>
          <p:cNvSpPr>
            <a:spLocks noGrp="1"/>
          </p:cNvSpPr>
          <p:nvPr>
            <p:ph/>
          </p:nvPr>
        </p:nvSpPr>
        <p:spPr>
          <a:xfrm>
            <a:off x="685440" y="1523880"/>
            <a:ext cx="8001000" cy="4572000"/>
          </a:xfrm>
          <a:prstGeom prst="rect">
            <a:avLst/>
          </a:prstGeom>
          <a:noFill/>
          <a:ln w="0">
            <a:noFill/>
          </a:ln>
        </p:spPr>
        <p:txBody>
          <a:bodyPr lIns="92160" rIns="92160" tIns="46080" bIns="46080" anchor="t">
            <a:normAutofit fontScale="98000"/>
          </a:bodyPr>
          <a:p>
            <a:pPr marL="284400" indent="-2844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Financial Meltdown</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 75-80%</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nor -- 20 year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 150-200 basis point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 13%-15%</a:t>
            </a:r>
            <a:endParaRPr b="0" lang="en-US" sz="1800" spc="-1" strike="noStrike">
              <a:solidFill>
                <a:srgbClr val="000000"/>
              </a:solidFill>
              <a:latin typeface="Arial"/>
            </a:endParaRPr>
          </a:p>
          <a:p>
            <a:pPr marL="284400" indent="-2844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Meltdown</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50%</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nor 10 Year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250 basis points</a:t>
            </a:r>
            <a:endParaRPr b="0" lang="en-US" sz="1800" spc="-1" strike="noStrike">
              <a:solidFill>
                <a:srgbClr val="000000"/>
              </a:solidFill>
              <a:latin typeface="Arial"/>
            </a:endParaRPr>
          </a:p>
          <a:p>
            <a:pPr lvl="1" marL="953280" indent="-2844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 16%</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in 1996</a:t>
            </a:r>
            <a:endParaRPr b="1" lang="en-US" sz="2000" spc="-1" strike="noStrike">
              <a:solidFill>
                <a:srgbClr val="000000"/>
              </a:solidFill>
              <a:latin typeface="Arial"/>
            </a:endParaRPr>
          </a:p>
        </p:txBody>
      </p:sp>
      <p:pic>
        <p:nvPicPr>
          <p:cNvPr id="117"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533520"/>
            <a:ext cx="78483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s Responsibilities</a:t>
            </a:r>
            <a:endParaRPr b="1" lang="en-US" sz="2000" spc="-1" strike="noStrike">
              <a:solidFill>
                <a:srgbClr val="000000"/>
              </a:solidFill>
              <a:latin typeface="Arial"/>
            </a:endParaRPr>
          </a:p>
        </p:txBody>
      </p:sp>
      <p:pic>
        <p:nvPicPr>
          <p:cNvPr id="119" name="" descr=""/>
          <p:cNvPicPr/>
          <p:nvPr/>
        </p:nvPicPr>
        <p:blipFill>
          <a:blip r:embed="rId1"/>
          <a:stretch/>
        </p:blipFill>
        <p:spPr>
          <a:xfrm>
            <a:off x="685800" y="1523880"/>
            <a:ext cx="8001000" cy="4572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Bill Gates</cp:lastModifiedBy>
  <cp:lastPrinted>1999-07-15T13:20:36Z</cp:lastPrinted>
  <dcterms:modified xsi:type="dcterms:W3CDTF">2007-12-11T07:55:38Z</dcterms:modified>
  <cp:revision>124</cp:revision>
  <dc:subject>CLO Course</dc:subject>
  <dc:title>CDO - Introduction</dc:title>
</cp:coreProperties>
</file>